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FF3-73D6-4F3D-AAFE-2F53CBB5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044-700A-4ABA-B645-16503A04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5EB-858E-4B3A-8319-178B7AD0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D8D-30A5-410F-B08F-2670C5F4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DBAB-A2F5-4BD8-A3B5-C7AAFE78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C003-4A9E-47FD-94F6-FD5A3E76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C081-84B8-4CDA-9567-85225E3F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84E9-EC1A-4EE5-982F-0BA4C922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C7BB-E8E0-4771-BC06-5F6F9067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2A8A-040D-4210-923E-700A59C3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E6AF-60F2-4E6B-BB29-DA525260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A09-E588-4DEA-9BA2-9FF9DBCF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8DC3-C4E7-408F-9CE5-B42D2002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5556-0127-44B2-BF1F-9F2049FF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D9D3-012E-442A-A29E-762B6DF4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5868-A427-4AC8-85A8-CF56DD8B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C5D1-A63E-46AB-B5E6-8DFE5C0E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A7A-5D60-48EA-941C-954FD529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8C7-6E95-48F2-9132-04C04147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B15-28A1-4EA7-BE13-B32A13B2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9E6-18F1-4283-9936-BC1A2E3C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BB5-CA06-4243-9E15-8D81EC0D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A73-B2D7-4767-A6D2-5CED9EE2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2F3-103D-4C36-ACF3-662A0C1D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D0E3-E80E-4211-8149-950E6C194C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DBAE-3BC4-4F92-9E94-D2455E8480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212640"/>
            <a:ext cx="8385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ичастие – это часть речи, причастная глаголу в образе прилагательного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                  В.И. Даль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4005000"/>
            <a:ext cx="80074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Повторение изученного по теме «Причастие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7120" y="324000"/>
            <a:ext cx="50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Причастие обознача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9240" y="981000"/>
            <a:ext cx="53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знак предм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55080" y="1452600"/>
            <a:ext cx="57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знак предмета по действ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83800" y="1884240"/>
            <a:ext cx="47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знак другого призн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080" y="2556000"/>
            <a:ext cx="86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Действительные причаст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оящ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ени образуются с помощью суффикс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25640" y="3684600"/>
            <a:ext cx="145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13280" y="3613320"/>
            <a:ext cx="80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01640" y="3613320"/>
            <a:ext cx="9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080" y="4356000"/>
            <a:ext cx="850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Страдательные причастия прошедш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ени образуются с помощью суффикс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3800" y="568152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44200" y="5508720"/>
            <a:ext cx="10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81280" y="550872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7160" y="-36360"/>
            <a:ext cx="718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Причастие с зависимыми слов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ыва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57680" y="971640"/>
            <a:ext cx="336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лож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86040" y="1619280"/>
            <a:ext cx="48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частным оборо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86040" y="2266920"/>
            <a:ext cx="38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овосочета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6120" y="2781360"/>
            <a:ext cx="918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Какой морфологический признак отсутству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причас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7640" y="3903840"/>
            <a:ext cx="13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и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11840" y="3851280"/>
            <a:ext cx="17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36920" y="378000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ц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4320" y="4508640"/>
            <a:ext cx="948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Чаще всего в предложении причастие быва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4400" y="5219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полн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26760" y="5075280"/>
            <a:ext cx="33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01680" y="5867280"/>
            <a:ext cx="37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стоятель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197000"/>
            <a:ext cx="8780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ава сияла (не)мигающая звез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Поэма состоит из (не)завершённых гла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Нужная книга (не) прочита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(Не)замеш…нный в преступлении челове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л показ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(Не) высказанный упрёк Анны Петров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Ветер колеблет стебелёк с ещё (н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охшей рос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Ответ до сих пор (не)получ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Кастрюля с (не)замеш…ым тестом стоя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то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литно - раздельн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Е, И, Я или 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303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6600" y="169236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стрел…нный зве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0760" y="2340000"/>
            <a:ext cx="426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трел…нный вра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0760" y="2987640"/>
            <a:ext cx="40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кач…нное колес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4400" y="3635280"/>
            <a:ext cx="412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кач…нный 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2400" y="4437000"/>
            <a:ext cx="51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луш..нные пожел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7280" y="5229360"/>
            <a:ext cx="35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уш…ое бель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71120" y="1619280"/>
            <a:ext cx="25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стрел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26760" y="234000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трел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84920" y="3059280"/>
            <a:ext cx="19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кат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84920" y="363528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кач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02760" y="4356000"/>
            <a:ext cx="22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слуш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6200" y="5219640"/>
            <a:ext cx="204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суш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708280"/>
            <a:ext cx="9258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суше…ое бельё, невыуче…ые уроки, по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сея…о, ране…ый пулей солдат, купле…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лет, маринова…ый огурец, кова…ая лошад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 или НН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6:19:21Z</dcterms:created>
  <dc:creator>User</dc:creator>
  <dc:description/>
  <dc:language>en-US</dc:language>
  <cp:lastModifiedBy>User</cp:lastModifiedBy>
  <dcterms:modified xsi:type="dcterms:W3CDTF">2009-10-18T15:14:51Z</dcterms:modified>
  <cp:revision>7</cp:revision>
  <dc:subject/>
  <dc:title>Повторение изученного по теме «Причастие»</dc:title>
</cp:coreProperties>
</file>